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54E-CFFE-4B62-8A4D-F535E1B4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AA5-2249-4654-BA76-0BB3D071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B34-69E4-4BF1-8445-8C3E9F53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79A-4A03-4604-A28E-209F0B27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8A61-3EB8-4417-B7C9-91E9F675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23BB-2A11-4036-85CF-BCCE7B6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78E2-CDEE-4BAC-931F-671637A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524D-75AA-4912-8564-4BA45E52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253-A1D2-4E63-8359-C5003CBF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42B-A58D-45D7-B238-3074A13E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E4B-449B-4737-871D-FEA0B3DC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44C-79C6-4B07-A635-2935962F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162F-4B96-4724-ADDE-6B9B48C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E1FF-2D6E-4BAA-A959-9F43A88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17BC-8B80-4CA7-A1EA-3D1B779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BEE7-A01E-41E9-B1F5-793EB3FA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3B17-3215-428A-8C57-6D452C3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E23-F281-4075-A573-DE2E8864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639-1F37-4302-970B-BABB7AB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1B5-D4DD-45F0-B860-6CA5CAF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F49-7CA5-4D59-AE1C-BA2D351D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BB5-F5A6-429F-92E5-6167417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926-B41D-4FCA-BDC5-CF5B3B3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88A-0B16-45D8-97D3-DFBEBA4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972-F052-46AD-8267-F5F836173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B847-1649-4578-967E-7D83ECD14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ass Gastropod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va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33920" y="3352680"/>
            <a:ext cx="51051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t and Snails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ils los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ir bodies through the diffusion of water,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sm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en salt is poured on their body.  Water leave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dy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snail to balance the salt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52920" y="2571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Gastropo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ropo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largest and most diverse group of mollus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70,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gastropod species are still currently found on earth today. 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, 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ssil species have been disco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071880" cy="231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Gastropo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Gastropoda includ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na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mp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lu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, whelks, conchs, periwinkle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a slu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ea hares, and sea butterf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097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stropod Ho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pods li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qua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restr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s.  Gastropods that live on land have adapted an area in their mantle into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u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they can breathe out of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17960" y="2359080"/>
            <a:ext cx="3927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ival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960" y="1294920"/>
            <a:ext cx="392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val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means that they have one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ll is mad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iece and may be coiled or uncoil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e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center of the shell is the oldest part of the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s on the shell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r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Whorls may curl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f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ing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t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up of the gastro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stropod Bodies and Tor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92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primari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lateral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metrica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 middle part of their body is asymmetrical beca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r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is a process that twists the mantle cav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8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s relative to the head and foo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the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llus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undergo tor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17960" y="2151000"/>
            <a:ext cx="39974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stropod Defen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defend themselves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imary ways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ir shel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ir muc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lso have symbiotic relationships with some Cnidarians.  In some cases, the gastropod can control the Cnidarian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inging tenta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defend against pred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22280" y="1905120"/>
            <a:ext cx="295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Gastropod Di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ods are primari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az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They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umers in their ecosystem because they feed on plants.  They use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u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is a combination of a tongue and teeth,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scra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78480" y="1905120"/>
            <a:ext cx="2805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sky Little Pe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pods ar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arden p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often eat landscaping plants and their population can be hard to control through conventional pestic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98600" y="1905120"/>
            <a:ext cx="2805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47:25Z</dcterms:created>
  <dc:creator>kmcgrady</dc:creator>
  <dc:description/>
  <dc:language>en-US</dc:language>
  <cp:lastModifiedBy>kmcgrady</cp:lastModifiedBy>
  <dcterms:modified xsi:type="dcterms:W3CDTF">2011-02-23T17:31:54Z</dcterms:modified>
  <cp:revision>2</cp:revision>
  <dc:subject/>
  <dc:title>Class Gastropoda</dc:title>
</cp:coreProperties>
</file>